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004-A9A5-4723-AB77-3C4F4A3C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443-CB12-4646-AE5F-EAFF55C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CD1-99A3-4648-8E0E-239EB6D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EC1-265F-48A9-8623-1733E8C6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10D-8BD5-438D-8619-001E338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006-8F6F-4E73-B5F2-80011B4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A3A-436A-4E13-AEA7-2AE27426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B26-7272-4520-B637-A66E498E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72C-1B2D-462D-B489-6B93B3EB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9F1-BDC3-462D-A23B-314DD6F9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16D-A39C-4CE6-831D-4D4659D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4A5-4A0D-49A5-A80F-6B4317C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A2A-113C-46DF-9421-8379E6D242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ednesday, November 12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8-11-12T15:48:07Z</dcterms:modified>
  <cp:revision>11</cp:revision>
  <dc:subject/>
  <dc:title>Lesson 5.1 part one</dc:title>
</cp:coreProperties>
</file>